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CAA-F3B5-4D04-B777-306E9BF4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25D-7CC1-4F86-A457-FA6BE067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F82-B7F0-49B5-948C-08F01AD9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1BA-1D46-4248-AFBD-570B98C2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EF5B-5D9A-4BF3-8694-CFF2679A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B15A-47E5-470A-BE25-111871A0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61B4-6235-4460-ADDE-F2BDD3F4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02B8-29E8-469A-9E0E-F7BC23A2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5A87-C918-4CE1-B095-41E9E9AF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54AA-02CC-477D-979B-51728619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BF7D-FC27-4BEA-96A9-863B276C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997-71F8-4C8A-885D-03FE03A0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8466-8E44-4643-B4DC-F2371AE4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7E31-667E-4AAD-8859-07EB8D38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EBB7-44DE-4A8E-84AD-13821F31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34E5-085C-4246-8882-02A8B860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4FF3-A31B-4356-BA3C-E3F7E790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17D9F-A0D8-4CC4-A318-B1C80F37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AB96-0B31-4F16-A310-0C0B4434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E0BE8-9F64-4978-AAEA-9FF960C0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5379A-8F3C-4195-843C-BFF02CD4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47DC8-B002-4FBF-91C9-D6A60A88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D46-B209-489D-9111-2075879C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2677B-476F-40A5-AB4E-77D1FEEA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4D164-6024-4465-8072-E959CC7B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03636-CD1C-4DA6-A3B0-B713D33D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3B156-F781-4FCC-9999-E76E65B4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A756-C2CD-4536-90A6-D31C229B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D2B66-A988-41EF-BC56-1EB3EF61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9379C-3D14-4273-9F27-D8F23102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FE41A-02B8-4D0B-95CC-38941CD6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D3B28-2149-4E0F-A38B-270250C1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BBB87-7D1A-4AEC-B174-FC9AF012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13F-ABD3-4DE1-8601-A3E94816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D4670-B40A-4B7E-BB0E-BB0F2376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688FA-ACAE-46BC-941A-E753A38A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42F2-A5E7-43C7-8CAA-4E414D9D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DC252-F4B9-43B0-96E3-93D5E2A2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62F5C-0739-4C50-B112-05F6A7C7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10D95-A362-4611-9202-631ABDA2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85EE9-C742-4070-8AB5-DB291699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A399B-A412-4D69-AD6F-4D553526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B0EC0-22A8-41B4-9D31-CAE8F344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9F8-15CE-4BFF-89A6-F28C616E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235-3E52-4048-9646-82F418DB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0C2-F498-499F-9E77-46C4EF97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816-D303-4B71-AC21-D938D389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509-FBC1-40C5-8474-FD0FA9F5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35FF-9AA1-4723-B75F-8E2BD4B4B598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7B53-464B-41B2-9A24-8F3AC80D1E09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3EE8-B764-4573-ACC9-6BD7EBBD489D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FB50-A610-4238-9CEB-33FE5504CED7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4617b"/>
                </a:solidFill>
                <a:latin typeface="Calibri"/>
              </a:rPr>
              <a:t>Develop a workplace  learning </a:t>
            </a:r>
            <a:r>
              <a:rPr b="1" lang="en-AU" sz="2800" spc="-1" strike="noStrike">
                <a:solidFill>
                  <a:srgbClr val="04617b"/>
                </a:solidFill>
                <a:latin typeface="Calibri"/>
              </a:rPr>
              <a:t>environment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Lesson 3 –  20 July 201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Placeholder 6" descr="arch_gilliandunlop,0.jpg"/>
          <p:cNvPicPr/>
          <p:nvPr/>
        </p:nvPicPr>
        <p:blipFill>
          <a:blip r:embed="rId1"/>
          <a:srcRect l="0" t="7359" r="0" b="7359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4617b"/>
                </a:solidFill>
                <a:latin typeface="Calibri"/>
              </a:rPr>
              <a:t>AREAS TO BE EVALUAT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Program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Present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y traine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y observ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raine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ttitu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C:\Program Files\Common Files\Microsoft Shared\Clipart\cagcat50\bd06784_.wmf"/>
          <p:cNvPicPr/>
          <p:nvPr/>
        </p:nvPicPr>
        <p:blipFill>
          <a:blip r:embed="rId1"/>
          <a:stretch/>
        </p:blipFill>
        <p:spPr>
          <a:xfrm>
            <a:off x="4572000" y="2590920"/>
            <a:ext cx="3200400" cy="296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4617b"/>
                </a:solidFill>
                <a:latin typeface="Calibri"/>
              </a:rPr>
              <a:t>AREAS EVALUATED </a:t>
            </a:r>
            <a:r>
              <a:rPr b="1" lang="en-AU" sz="24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continu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On-the-Job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ehaviour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Faci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ncillary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4" descr="C:\Program Files\Common Files\Microsoft Shared\Clipart\cagcat50\bd06790_.wmf"/>
          <p:cNvPicPr/>
          <p:nvPr/>
        </p:nvPicPr>
        <p:blipFill>
          <a:blip r:embed="rId1"/>
          <a:stretch/>
        </p:blipFill>
        <p:spPr>
          <a:xfrm>
            <a:off x="4572000" y="2819520"/>
            <a:ext cx="3040200" cy="251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mall group activit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 micro training sess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lect one of the following top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erformance managem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muneration managem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ustomer servi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ruitment &amp; Sele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lling a produc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pare a 5 minut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icr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raining session based on the above top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some of the principles and techniques outlined in the theoretical component of today’s less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303200" y="38088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ahoma"/>
              </a:rPr>
              <a:t>Training and Develop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002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Develop a workplace learning environment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2600" y="2214360"/>
            <a:ext cx="7805880" cy="45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Employee training has become increasingly important as jobs have become more sophisticated &amp; influenced by technological chan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raining is a learning experience that seeks a 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relatively permanent change in an individual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that will improve their ability to perfor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Organisations get outputs because people perform tasks to a desired standar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Before employees can perform their tasks properly, they must master the special technology used by the organis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Training is the acquisition of the technology which permits employees to perform to a standar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Constantia"/>
              </a:rPr>
              <a:t>1/3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Develop a workplace learning environment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Develop a workplace learning environment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nstantia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 related to the present jo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nstantia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mphasises personal growth &amp; improve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nstantia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osely related to development) Broader implications &amp; applications - does not concentrate upon learning or acquisition of particular ski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990720" y="22860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n organisation’s training needs should consi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he following :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are the orga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ation’s goals and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tasks must be completed to achieve these goal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behaviours are necessary for each job employee to carry out their job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deficiencies, if any, do employees have in skills, knowledge or attitudes requires to perform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he necessary behavi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raining and Develop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n effective training programme should b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ith the following princip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 is enhanced when the learner is motiv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 requires feedb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inforcement increases the likelihoo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ehaviour is repe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act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 increases learners perform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 begins rapidly then platea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arning must be transferable to the jo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raining and Develop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Formal training methods can be classified a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on-the-job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g. apprentices, rotation, instruction 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off-the-job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g. lectures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conferences, films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imulations et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raining EVALUATION methods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actions of participants or manag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est-retest meth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pre-post performance meth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incremental-control meth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01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4617b"/>
                </a:solidFill>
                <a:latin typeface="Calibri"/>
              </a:rPr>
              <a:t>TRAINING METHODOLOGI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Lec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Modified lec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Role-pla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Buzz Group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Field trip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Programmed Instru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4572000" y="2895480"/>
            <a:ext cx="3746520" cy="212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0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4617b"/>
                </a:solidFill>
                <a:latin typeface="Calibri"/>
              </a:rPr>
              <a:t>LEVELS OF EVALU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e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ehaviou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C:\WINDOWS\Application Data\Microsoft\Media Catalog\Downloaded Clips\cl4f\j0198609.wmf"/>
          <p:cNvPicPr/>
          <p:nvPr/>
        </p:nvPicPr>
        <p:blipFill>
          <a:blip r:embed="rId1"/>
          <a:stretch/>
        </p:blipFill>
        <p:spPr>
          <a:xfrm>
            <a:off x="3886200" y="2286000"/>
            <a:ext cx="4114800" cy="368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1:03:26Z</dcterms:created>
  <dc:creator>John McDonald</dc:creator>
  <dc:description/>
  <dc:language>en-US</dc:language>
  <cp:lastModifiedBy>jmcdonald2</cp:lastModifiedBy>
  <dcterms:modified xsi:type="dcterms:W3CDTF">2010-07-26T22:05:17Z</dcterms:modified>
  <cp:revision>7</cp:revision>
  <dc:subject/>
  <dc:title>Training &amp; Development</dc:title>
</cp:coreProperties>
</file>